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chimes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C51E-1C49-4FD5-8C96-20F336F30D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598E-CA61-4A32-B6CA-FB9AEAA00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A763-EA57-4F1F-887C-EFDF948108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9D43-7353-4615-9975-BCE34A5F0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0A9-ECAF-4223-A261-F9AEE49F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DA6-0DF3-46F0-A0A2-91EFAFCC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3B8-F3F9-4B9D-A0D4-D3275445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A530-124F-43C0-9F03-ED6C6B18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A79-5009-4560-AA35-05C8784E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BAE-2049-46D5-B74E-4F13C819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4B3-07E6-484B-814F-9639ACF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7F2A-DD5C-4A6D-BEF3-1C0115FA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26C-BE3B-4556-B383-369CF745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AA61-13CC-4A8E-B9B7-76B2B9B7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EEB-8013-4CE9-9F91-772CCF48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62FC-6A55-4D7E-9708-D6295048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052F-9A0D-4D72-8635-033A593480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25905" t="6900" r="4817" b="15247"/>
          <a:stretch/>
        </p:blipFill>
        <p:spPr>
          <a:xfrm>
            <a:off x="3240" y="-1440"/>
            <a:ext cx="9136080" cy="6860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560" y="83808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Dust"/>
              </a:rPr>
              <a:t>Mrs. Scurry’s Clas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80920" y="3352680"/>
            <a:ext cx="49532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you need to k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71440" y="274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440" y="160020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all teacher dir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 class proced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ep hands and feet to sel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olite w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rcRect l="25930" t="0" r="45185" b="0"/>
          <a:stretch/>
        </p:blipFill>
        <p:spPr>
          <a:xfrm>
            <a:off x="0" y="0"/>
            <a:ext cx="2819520" cy="6873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Weekly Assign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s will have spelling words each 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ework is sent daily except on Fri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ekly checkups will be given in Math and spelling (usually on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assignments are graded on a rubr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 flipV="1">
            <a:off x="1219320" y="-76320"/>
            <a:ext cx="8534160" cy="76320"/>
          </a:xfrm>
          <a:prstGeom prst="rect">
            <a:avLst/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rcRect l="7143" t="9131" r="44047" b="32074"/>
          <a:stretch/>
        </p:blipFill>
        <p:spPr>
          <a:xfrm>
            <a:off x="6399360" y="4648320"/>
            <a:ext cx="274464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t the learning begin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1744560"/>
            <a:ext cx="617220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21:08:14Z</dcterms:created>
  <dc:creator>dscurry</dc:creator>
  <dc:description/>
  <cp:keywords/>
  <dc:language>en-US</dc:language>
  <cp:lastModifiedBy>dscurry</cp:lastModifiedBy>
  <dcterms:modified xsi:type="dcterms:W3CDTF">2011-08-22T21:35:44Z</dcterms:modified>
  <cp:revision>3</cp:revision>
  <dc:subject/>
  <dc:title>Mrs. Scurry’s Cla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35029990</vt:lpwstr>
  </property>
</Properties>
</file>